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EB0-B897-48D9-BD97-AB8B5CCB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C63-1CA7-4EC0-9B6A-37D8561D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08F-1A0A-4F2C-93BE-5FF90E46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619-E73A-4C0E-BC09-89B9FAB4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B56-24EB-4107-A9B0-96CA468E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22E-CE81-4235-9105-CB1EC082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64E-43C1-400F-82D7-0892F5DB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9BC3-1800-42A1-A3D3-1E726493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2BF-A73B-4AF0-894F-19E43E30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6DA-D236-4815-B89E-AF52DE4C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BBC-3DC0-4D73-AE66-F9D4F6E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2B8-FCDD-401F-9C20-6E5E1AC5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2B81-AFD8-4B18-A575-C650C89E0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000000"/>
                </a:solidFill>
                <a:latin typeface="Arial"/>
              </a:rPr>
              <a:t>Introdução à </a:t>
            </a:r>
            <a:br>
              <a:rPr sz="6600"/>
            </a:br>
            <a:r>
              <a:rPr b="1" lang="pt-BR" sz="6600" spc="-1" strike="noStrike">
                <a:solidFill>
                  <a:srgbClr val="000000"/>
                </a:solidFill>
                <a:latin typeface="Arial"/>
              </a:rPr>
              <a:t>Linguagem Jav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JAVALOGO52X88" descr=""/>
          <p:cNvPicPr/>
          <p:nvPr/>
        </p:nvPicPr>
        <p:blipFill>
          <a:blip r:embed="rId1"/>
          <a:stretch/>
        </p:blipFill>
        <p:spPr>
          <a:xfrm>
            <a:off x="3886200" y="3886200"/>
            <a:ext cx="1441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é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erdade, se você conhece bem 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istem struct, union, artimética de ponteiros, include, classes virtuai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also, se você conhece apenas programação DOS ou VB, ou se não conhece 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axe estra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reve-se m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erdade,  pois seus produtos (.class, compilador e VM) são pequ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also, pois é muito extens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muitas característ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527-D41F-47A0-A1FB-253511A81D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é Orientada a Obj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letamente ver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taclasses e reflex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sistência de objetos (serializ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lução mais elegante para herança múltipla (interfa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suma, por ser recente, é uma linguagem OO pura (ao contrário do C++, que é híbri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CAA-C526-416A-908E-5506653A96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é Distribuí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letamente ver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tensa biblioteca de rotinas para se trabalhar com protocolo TCP/IP (FTP, HTTP, SM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unicação entre objetos remotos (R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abilitada para funcionar também no servidor (servlets e JS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abilitada para funcionar também em dispositivos portáteis (J2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4E7-9C6E-4A2D-9404-1EB1C6E9EC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é Robu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ibilidade de capturar e tratar erros de run-time (exceçõ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celente gerenciamento de memó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ossível o acesso indevido à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7EE-81C4-4CF5-82E6-1C7798EA7B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é Seg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is ou menos ver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é possível se acessar a memória fora de seu espaço de process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ibilidade de se impedir o acesso a funções de baixo nível quando da execução a partir de um Brow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vo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leas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que corrigem eventuais falhas de segurança descober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90B-2A4A-4351-92C4-5D1823F9E6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é Neutra quanto à Arquite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bytecodes contidos em um arquivo .class podem ser executados em uma grande de diferentes plataformas para as quais existam JVMs (Windows 9x, Windows NT, Windows 3.11, MacOS, Solaris, Linux, Mainframe*.* :), HP-UX, PalmTops, Web-TVs, torradeiras, cafeteiras :))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056-DA78-4EFB-84D7-03139D9571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é Portá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rande Verdad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Write Once Run Anywher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em define as características particulares à cada arquitetura é a JVM e não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.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adrã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acilita a tarefa de “internacionalização” do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plicação tem a mesma “cara”, não importa o S.O. (apenas a partir da versão 1.1, com o pacote Swing que pode substituir o AW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B08-0327-43D3-97F6-E4E78A7C61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é Interpre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rande desvantagem :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desempenho do compilador e da JVM é ru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Wintel, a configuração mínima é Pentium 100 com 32 Mb de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188-BAFA-4F23-9E15-65151C6710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é de Alto Desempe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 ser verdade, graças a mecanismos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IT (Just in Time Compil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iladores nativos (transformam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.clas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.ex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s (JBuilder, Visual Café etc), que  facilitam muito o desenvolvimento das apl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A94-C1EE-41B2-BCBB-84E4824C47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é Multithre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rmite que um programa faça mais de uma coisa ao mesmo temp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ito “fácil” de implement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ém, a maneira como a JVM interpreta o código multithreaded varia, dependendo da arquite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0CE-B282-41C7-8917-383D06E974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reve 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un Microsystems, 90/9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m grupo de desenvolvimento recebeu a tarefa de projetar uma linguagem de programação pequena que pudesse ser usada em dispositivos eletrodomésticos (controles remoto etc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s dispositivos não possuem muita memória, então a linguagem teve que ser bem pequena e gerar códigos restri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nguagem foi projetada para ser utilizado em diferentes tipos de hardware, graças ao us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ytecod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de uma Máquina Virtual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906-363E-42D8-A616-1B610FFD9D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é Dinâ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bindings são resolvidos em tempo de execução (funciona bem somente a partir da versão 1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rmite que novos métodos sejam acrescentados a uma biblioteca sem afetar os clientes desta bibliote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D7A-BF01-44BB-A06F-44E5A44E92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é a Linguagem da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 lado do “Cliente”, isto é mais ou menos verdade, graças aos applets, que são suportados por praticamente todos os Web Browser (diferente de outras tecnologias que exigem o uso d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plug-i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 lado do “Cliente”, applets são mais profissionais que linguagens script (Javascript e VBScript por exemp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0829-36EE-4CFD-97BE-13445F2496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é a Linguagem da Internet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 lado do “Servidor”, isto é verdade graças aos servlets (applets que rodam no servidor e que substituem os scripts Perl como mecanismo para CGI) e ao JSP (Java Server Pages), tecnologia que facilita a criação de páginas dinâ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033-7287-4A4A-9F6C-DEF9C1E20E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que Java não é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ava não é Javascript e vice-ve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ava não é uma extensão de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ava não é fácil de ap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ava não é um ambiente fácil de se progra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ava ainda não é uma linguagem de programação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655-DA5F-4932-8E31-7853407455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que Java não é...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ava não é tão lenta quanto seus inimigos dizem (madura o suficiente para o desenvolvimento de aplicações sé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ava não se restringe somente à Internet (boa para aplicações OO stand-alone, com ou sem interface gráf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D0B-8092-4D9A-9491-D0B26627D1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reve Histórico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91: decidiu-se por nomear a linguagem como Java (apelido dado pelos americanos ao café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92: entregue o primeiro produto chamado “*7” (controle remoto extremamente inteligent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houve interesse comercial. Buscou-se outro modo para comercializar a tecnolo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quanto isso a Internet estava crescendo e era necessário um browser para poder acessá-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idiu-se então pela construção deste browser, denominado HotJava, que foi inteiramente programado em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B8F-A900-466C-A986-BD3BA4047E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reve Histórico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grande inovação em relação ao Java se deu em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Netscape decidiu dar suporte à linguagem a partir de seu navegador Web para Internet (Netscape Navigator 2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artir disto, todo usuário deste navegador passou a ser um potencial usuário da linguagem Ja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de então, um fluxo constante de novidades vem acontecendo, culminando com a linguagem Java tornando-se a atual “coqueluche” dos programadores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F82-5A39-4A06-A2D5-3DEE9BB0BF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reve Histórico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são atual da linguagem: 2.0 (12/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Último release: 1.3.1 (03/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núltima versão da linguagem: 1.1 (02/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eases: 1.1.1 a 1.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meira versão da linguagem: 1.0 (05/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eases 1.0.1 e 1.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as as versões foram e são distribuídas gratuitamente (http://www.javasoft.com) no pacote JDK (Java Development K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480-BF5C-4AB7-BD59-ECB1C51F64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2382840" cy="65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00200" y="4495680"/>
            <a:ext cx="1979640" cy="1216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ava Development K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ilador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a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pretador Java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ava Virtual Machin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plet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ava Debu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dor Automáticos de Doc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ava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ust-in-Time 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901-2F8D-426F-9871-E19C3D44B5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8200" y="457200"/>
            <a:ext cx="840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mbiente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14400" y="1301760"/>
          <a:ext cx="7467480" cy="51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01760"/>
                    <a:ext cx="746748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04D-3E6D-4FF4-B461-A96286FBAB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mbiente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tandard" descr=""/>
          <p:cNvPicPr/>
          <p:nvPr/>
        </p:nvPicPr>
        <p:blipFill>
          <a:blip r:embed="rId1"/>
          <a:stretch/>
        </p:blipFill>
        <p:spPr>
          <a:xfrm>
            <a:off x="0" y="1308240"/>
            <a:ext cx="9144000" cy="48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AB8-2A2D-4628-A754-CD2741B0B8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aracterísticas da Linguagem J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ientada a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tribu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b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utra quanto à Arquite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tátil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Write Once Run Anywhe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pre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Alto Desemp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ltithreaded (multitaref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nâ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1E6-64D9-458F-982B-82BE15AB54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01:13:38Z</dcterms:created>
  <dc:creator>VITOR BRANDI JUNIOR</dc:creator>
  <dc:description/>
  <dc:language>en-US</dc:language>
  <cp:lastModifiedBy>IEP</cp:lastModifiedBy>
  <cp:lastPrinted>1999-08-03T02:19:36Z</cp:lastPrinted>
  <dcterms:modified xsi:type="dcterms:W3CDTF">2001-08-20T19:27:06Z</dcterms:modified>
  <cp:revision>44</cp:revision>
  <dc:subject/>
  <dc:title>Introdução à  Linguagem Java</dc:title>
</cp:coreProperties>
</file>