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340-937E-410C-8EA3-5202FEB8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2D8B-941C-4859-8CC5-2188D84A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19B-0CFA-4619-B15D-FB9687D3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33D3-AC08-4396-B82D-99EFEA6D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4566-0C43-4132-874C-437AD153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EDA-9B90-42E7-8BF1-9C709288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CE3-9CDB-4E02-A423-3918BEE5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5DB2-3A79-41B0-816E-0393D91B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AE71-50FC-4E48-A27D-054EC59C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E15B-CF60-4DBB-8194-2B96D1F4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1EF-A07B-4EC1-BC79-7C935964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D67-384D-47DC-9953-61842105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6829-591D-4BBE-8CD2-6117D09E8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Conceitos Básicos de Interface Gráfica em Jav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itor Brandi Jun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Frames e Jane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ncipais métodos disponíveis e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herdados da class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Window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void toFron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void toBa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ncipais métodos disponíveis e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que ele mesmo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void setResizable(boolean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void setTitle(String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DA12-FD2E-4FA4-A914-D5BE10D7F9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Frames e Jane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" y="646200"/>
            <a:ext cx="90810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public class TerceiroFrame extends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TerceiroFrame() //construt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etTitle("Frame que as vezes aparece \”meio\” centralizado na tela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addWindowListener(new WindowAdapte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{public void windowClosing(WindowEvent e){System.exit(0);}}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Toolkit tk = Toolkit.getDefaultToolki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Dimension d = tk.getScreenSize();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// recupera o tamanho atual da t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int alturaTela = d.heigh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int larguraTela = d.widt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etSize(alturaTela/2, larguraTela/2);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//acerta o tamanho do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etLocation(larguraTela/4, alturaTela/4);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// acerta a localização do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public static void main (String[] ar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TerceiroFrame f = new TerceiroFram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f.setVisible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Janela j = new Janela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j.setSize(300,3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j.setVisible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D2A-2B25-410A-82B0-4DA75F5624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inuação do 3o 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5800" y="1905120"/>
            <a:ext cx="87152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class Janela extends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Janela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etTitle("Titulo do Fram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addWindowListener(new WindowAdapte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{public void windowClosing(WindowEvent e){setVisible(false);}}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etSize(400,4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etVisible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BBD-24F0-4AD0-86D7-FA53065DD2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presentando informações na Jan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se desenhar em um frame deve-se herdar e substituir o método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étodo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recebe um parâmetro da classe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lasse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ossui os métodos para renderizar textos e formas dentro dos Containers, como por 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rawString (String s, int x, int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rawLine(int x1, int y1, int x2, int y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id fillOval(int x, int y, int largura, int al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1AD-B62F-4D59-91DB-24F8F47BF1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presentando informações na Jan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0840" y="685800"/>
            <a:ext cx="83494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public class QuartoFrame extends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QuartoFrame() //construt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etTitle("Frame no qual se desenha informações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addWindowListener(new WindowAdapte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{public void windowClosing(WindowEvent e){System.exit(0);}}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etSize(400,3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public void paint (Graphics 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g.drawString("Quarto exemplo de frame", 5, 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int i = 5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while (i &lt; 25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g.drawString("Quarto exemplo de frame", 5+i, 50+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i+=5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public static void main (String[] ar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QuartoFrame f = new QuartoFram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f.setVisible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D8F-2563-4CCC-8C82-B50F133C77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ventos e as funções </a:t>
            </a:r>
            <a:r>
              <a:rPr b="1" i="1" lang="pt-BR" sz="32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i="1" lang="pt-BR" sz="3200" spc="-1" strike="noStrike">
                <a:solidFill>
                  <a:srgbClr val="000000"/>
                </a:solidFill>
                <a:latin typeface="Courier New"/>
              </a:rPr>
              <a:t>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e um método denominado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definido na class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Contain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que é chamado toda vez que o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recisar ser redesenhado (quando o tamanho da janela é modificado, por exemp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étodo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realiza duas taref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mpa o fundo da jan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hama o método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étodo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ambém pode ser substituído para exibir informações no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perimente trocar o método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elo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o exemplo anterior para ver o que acont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BF4-7212-4A9C-B937-9A968E46A2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ontes de Texto 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enas os símbolos disponíveis no conjunto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Unico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odem ser apresen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iste uma classe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que permite a manipulação de fontes de textos. A sintaxe é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Font f = new Font (String nom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int estil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int taman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7F7-547B-465B-9B7D-49BAAB563F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Fontes de Texto e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estilo das fontes é assim defini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ont.PLAIN - n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ont.BOLD -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negri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ont.ITALIC -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itál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ont.BOLD + Font.ITALIC -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negrito e itál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seguintes fontes estão disponíveis em todos os sistema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 são mapeadas para fontes próximas dentro de cada sistema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ansSeriff (Ar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ri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Monospa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al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</a:rPr>
              <a:t>Dialog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2DF-5208-4850-ABB2-DE1FC9BAA2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extos e Fonte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85800"/>
            <a:ext cx="83739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public class QuintoFrame extends Fram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QuintoFrame() { // construt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etTitle("Frame que apresenta uma verdade atrás da outra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addWindowListener(new WindowAdapte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{public void windowClosing(WindowEvent e){System.exit(0);}}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etSize(400,3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public void paint(Graphics 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tring [] listaDeFontes = getToolkit().getFontLis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Font fonteAtual = g.getFo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for (int i = 0; i &lt; listaDeFontes.length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g.setFont(fonteAtua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g.drawString(listaDeFontes[i], 20, i * 20 + 4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Font f = new Font(listaDeFontes[i], Font.BOLD, 18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g.setFont(f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g.drawString("Corinthians Campeão",120, i * 20 + 4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Frame f = new QuintoFram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f.setVisible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83D-B616-4B6E-91EF-BC843EE78A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extos e Fonte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objeto da classe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Toolkit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ermite estabelecer uma conexão entre a máquina virtual e o ambiente específico sobre o qual a aplicação Java está rodando, tornando possível recuperar informações sobre este 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as informações dizem respeito ao tamanho da tela, lista de fontes disponíveis, carga de imagens de arquivo, impressão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B96-F96B-4756-91D1-4D7BF85B83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990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Sum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981080"/>
            <a:ext cx="77724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rames e Janelas (Window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resentando informações em uma jan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ventos e as funções </a:t>
            </a:r>
            <a:r>
              <a:rPr b="0" i="1" lang="pt-BR" sz="28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pt-BR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ntes de Textos e Símbo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enhando e preenchendo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A64-0C1E-454C-8696-6772068427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2945880"/>
            <a:ext cx="380988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4960" y="2590560"/>
            <a:ext cx="205740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cc99"/>
                </a:solidFill>
                <a:latin typeface="Arial"/>
              </a:rPr>
              <a:t>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"/>
              </a:rPr>
              <a:t>lightG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33cc"/>
                </a:solidFill>
                <a:latin typeface="Arial"/>
              </a:rPr>
              <a:t>mag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00"/>
                </a:solidFill>
                <a:latin typeface="Arial"/>
              </a:rPr>
              <a:t>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ff"/>
                </a:solidFill>
                <a:latin typeface="Arial"/>
              </a:rPr>
              <a:t>p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066680"/>
            <a:ext cx="7924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métod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etColor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leciona a cor que é utilizada para todas as operações de desenho dentro do contexto gráfico ou componente. As 13 cores padrão s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666880"/>
            <a:ext cx="175248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b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ccff"/>
                </a:solidFill>
                <a:latin typeface="Times New Roman"/>
              </a:rPr>
              <a:t>cy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7777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777777"/>
                </a:solidFill>
                <a:latin typeface="Times New Roman"/>
              </a:rPr>
              <a:t>darkG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69696"/>
                </a:solidFill>
                <a:latin typeface="Times New Roman"/>
              </a:rPr>
              <a:t>g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2666880"/>
            <a:ext cx="152424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5050"/>
                </a:solidFill>
                <a:latin typeface="Times New Roman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h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C0C-0AB4-421B-AD0E-F8647A88FD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: SextoFrame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g.setColor(Color.whit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g.drawString("Cor white", 100, 24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g.setColor(Color.yellow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g.drawString("Cor yellow", 190, 4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ém das cores pré-definidas, é possível definir novas cores (red, green e blue). E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g.setColor(new Color(0, 128, 128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65E7-033D-4E3F-817E-3C76C1BDA4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ém disso, a classe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ystemCol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ermite recuperar cores pré-estabelecidas no sistema. 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etBackGround(SystemColor.window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lasse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ystemCol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ermite construir GUI compatíveis com as cores definidas no sistema opera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os exemplos de cores que podem ser recuperadas por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ystemCol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4648320"/>
            <a:ext cx="266688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esk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indowB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indow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4648320"/>
            <a:ext cx="251460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ontrol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fo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4648320"/>
            <a:ext cx="190512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EB16-297B-44B4-8F11-374CCABA1E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Desenhando e preenchendo for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métodos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rawLin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rawArc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rawPolyLin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rawPoligo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ermitem desenhar arcos e polígonos em Java. Exemplo da saída do programa SetimoFrame.j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F2AULA3" descr=""/>
          <p:cNvPicPr/>
          <p:nvPr/>
        </p:nvPicPr>
        <p:blipFill>
          <a:blip r:embed="rId1"/>
          <a:stretch/>
        </p:blipFill>
        <p:spPr>
          <a:xfrm>
            <a:off x="2133720" y="3200400"/>
            <a:ext cx="4724280" cy="31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9E0-00E5-4286-BC6B-F45AAAE733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Desenhando e preenchendo for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métodos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rawRec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rawRoundRec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raw3DRec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rawOv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senham, respectivamente, (adivinhe :), retângulos, retângulos de bordas arredondadas, retângulos 3D e elipses. Exemplo da saída do programa OitavoFrame.j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F3AULA3" descr=""/>
          <p:cNvPicPr/>
          <p:nvPr/>
        </p:nvPicPr>
        <p:blipFill>
          <a:blip r:embed="rId1"/>
          <a:stretch/>
        </p:blipFill>
        <p:spPr>
          <a:xfrm flipH="1" rot="10800000">
            <a:off x="457200" y="3352320"/>
            <a:ext cx="3200400" cy="2643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33920" y="3886200"/>
            <a:ext cx="52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g.drawRect(0, 0, 80, 3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g.drawRoundRect(100, 0, 80, 30, 15, 1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g.draw3DRect(200, 0, 80, 30, 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g.draw3DRect(200, 50, 80, 30, fals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g.drawOval(0, 100, 80, 3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CA50-7032-45B4-813C-2646619697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eenchendo for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reenchimento de formas funciona de maneira muito semelhante ao desenho de formas. Exemplo de saída do programa NonoFrame.ja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F4AULA3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3353040" cy="2535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581280" y="3581280"/>
            <a:ext cx="52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g.fillRect(0, 0, 80, 3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g.fillRoundRect(100, 0, 80, 30, 15, 1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g.fill3DRect(200, 0, 80, 30, 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g.fill3DRect(200, 50, 80, 30, fals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g.fillOval(0, 100, 80, 3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5D4A-45B9-40F2-94CA-4F21249595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ma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lasse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Imag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rovê o carregamento de imagens armazenadas em disco ou em uma URL da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se obter a imagem, utiliza-se o método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getImag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a classe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Toolki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E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mage i = Toolkit.getDefaultToolkit().getImage(“nome_imagem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vez instanciado o objeto da classe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Imag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pode-se apresentá-lo no frame através do método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definido na classe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E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void paint (Graphics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g.drawImage(i, 0, 0, this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enas imagens JPG e GIF podem ser carregadas e apresen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790-49B2-4887-9E8D-4D99DE5587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magen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xemplo do arquivo DecimoFrame.java preenche completamente o Frame com uma mesma imagem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i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 O pedaço de código que executa o preenchimento é apresentado abaix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g.drawImage(imagem, 0, 0, thi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for (int i = 0; i &lt;= larguraTela / larguraImagem; 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for (int j = 0; j &lt;= alturaTela / alturaImagem; j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f (i + j &gt;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g.copyArea(0, 0, larguraImagem, alturaImagem,i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arguraImagem, j * alturaImage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magem é desenhada uma única vez e copiada pelo resto d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étod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opyAre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pia uma área definida n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outra localização dentro do mesm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AC2-DB01-47F0-A644-3E9796B0E1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magen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técnica bem simples de animação consiste em se desenhar repetidas vezes uma imagem sobre outra ligeiramente difer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programa DecimoPrimeiroFrame.java tenta implementar este tipo simples de animação com resultados nada animadores :)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DCC2-FBF2-4005-897B-4048765F4DD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Java, a programação básica da GUI é feita através do uso da biblioteca de classes denominada AWT (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Abstract Window Toolkit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AWT é razoavelmente portável: a interface da aplicação definida na plataforma Windows é “mais ou menos igual” à que aparece na plataforma Sol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enas a partir da versão 1.1 é que a AWT passou a ser confi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8A3-EA53-4601-8F0A-ED5F47D42F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Introdução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À partir da versão 2 do Java, a JFC (Java Foundation Class) apresenta novos recursos para a construção da GUI das aplicaç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ava 2D: novas funções para desenhos e 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rag &amp; Dro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clicar, arrastar, copiar e c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WING: extensão da AW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i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ovos componentes d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ook and fee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daptação perfeita da GUI ao sistema operacional (Windows, Motif, Java Look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91B-3423-40C1-802E-BBDE72F9D6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Frames e Jane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 AWT, a janela de mais alto nível de uma aplicação (não está contida dentro de nenhuma outra) é denominada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Frame pode conter diversos outros componentes da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o se definir o Frame sobre o qual a GUI será apresentada deve-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nder a classe Frame e adicionar um manipulador de eventos para fechar o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r seu tamanho e posição de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AA9F-9251-48AA-8502-F2B5F3C95D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Frames e Jane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de Frame (que não funcion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ourier New"/>
              </a:rPr>
              <a:t>public class PrimeiroFrame extends Fr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300" spc="-1" strike="noStrike">
                <a:solidFill>
                  <a:srgbClr val="000000"/>
                </a:solidFill>
                <a:latin typeface="Courier New"/>
              </a:rPr>
              <a:t>public static void main (String[] ar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300" spc="-1" strike="noStrike">
                <a:solidFill>
                  <a:srgbClr val="000000"/>
                </a:solidFill>
                <a:latin typeface="Courier New"/>
              </a:rPr>
              <a:t>PrimeiroFrame f = new PrimeiroFrame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300" spc="-1" strike="noStrike">
                <a:solidFill>
                  <a:srgbClr val="000000"/>
                </a:solidFill>
                <a:latin typeface="Courier New"/>
              </a:rPr>
              <a:t>f.setVisible(true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614-C7D0-420A-A870-752D3FC9C6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Frames e Jane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 de Frame (que funciona): definidos seu tamanho e manipulador de eventos para fechá-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336760"/>
            <a:ext cx="85201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public class SegundoFrame extends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egundoFrame() //construt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addWindowListener(new WindowAdapte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{public void windowClosing(WindowEvent e){System.exit(0);}}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etTitle("Frame que funciona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etSize(300, 200);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// acerta o tamanho: 300 pixels de largura por 200 de a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etResizable(fals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public static void main (String[] ar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SegundoFrame f = new SegundoFram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f.setVisible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F00-7E6F-4E05-B1E7-4E26036B56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Frames e Jane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perclasses de Fr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F1AULA3" descr=""/>
          <p:cNvPicPr/>
          <p:nvPr/>
        </p:nvPicPr>
        <p:blipFill>
          <a:blip r:embed="rId1"/>
          <a:stretch/>
        </p:blipFill>
        <p:spPr>
          <a:xfrm>
            <a:off x="1371600" y="1936800"/>
            <a:ext cx="5410080" cy="42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1264-DB61-4C50-9923-0012381040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Frames e Jane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419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olean isVisibl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olean isShowing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oolean isEnabled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id setEnabled(boolean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oint getLocatio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oint getLocationOnScree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id setLocation(int x, int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id setLocation(Point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280" y="2133720"/>
            <a:ext cx="4191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imension getSize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id setSize(int width, int he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etSize (Dimension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id setFont (Font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id setBackGround (Color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id setForeGround (Color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id paint (Graphics 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219320"/>
            <a:ext cx="7315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ncipais atributos e métodos disponíveis em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Fram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herdados da class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E951-4C3E-486D-B488-F5206E5C9E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9T17:54:54Z</dcterms:created>
  <dc:creator>VITOR BRANDI JUNIOR</dc:creator>
  <dc:description/>
  <dc:language>en-US</dc:language>
  <cp:lastModifiedBy>IEP</cp:lastModifiedBy>
  <dcterms:modified xsi:type="dcterms:W3CDTF">2001-08-24T22:08:30Z</dcterms:modified>
  <cp:revision>114</cp:revision>
  <dc:subject/>
  <dc:title>Laboratório VI - aula 2 Roteiro: </dc:title>
</cp:coreProperties>
</file>